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F1B-FF52-49FC-8D0D-193AF9C9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413-AE50-43ED-A087-9C745A29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336-80DB-4160-83E4-52DD65BA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79F-7555-47B1-AD42-4D8FD0B0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656-5E96-4BFD-8EEF-23C335E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B36-27E4-4817-9A5D-7F9AE8CB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CC4-9834-4EFE-815A-67119DF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728-4964-4A62-B693-0E6377C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0A9-053F-4819-9D6E-20328C1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A95-C9B5-41FA-B218-EF206DB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0A4-5598-4241-84B4-7CCD850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8BE-8B16-4546-AE71-8AA7F19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B22-7C9D-4B89-9E09-A2F1CCD6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allposters.com/-sp/Rainbow-in-Sky-Parthenon-Greece_i1460451_.htm?aid=74934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Golden A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oponnesian War (431-404 B.C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strongest navy/ Sparta stronges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rta defeated Athens after a 27 yr.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polis and spirit were severely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gan to question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cydides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tory of the Peloponnesi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 is 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ers in search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to understand the outcome of the Peloponnesian War, these men sought to understan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rates (470-399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ratic Method– Teaching by ask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questioned all accept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o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and sentenced to death by po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ocrates"/>
          <p:cNvPicPr/>
          <p:nvPr/>
        </p:nvPicPr>
        <p:blipFill>
          <a:blip r:embed="rId1"/>
          <a:stretch/>
        </p:blipFill>
        <p:spPr>
          <a:xfrm>
            <a:off x="3809880" y="3276720"/>
            <a:ext cx="1905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o (427-347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of Soc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d school, “The Acad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d with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eath of Soc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 not believe common man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enough to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lato"/>
          <p:cNvPicPr/>
          <p:nvPr/>
        </p:nvPicPr>
        <p:blipFill>
          <a:blip r:embed="rId1"/>
          <a:stretch/>
        </p:blipFill>
        <p:spPr>
          <a:xfrm>
            <a:off x="6553080" y="1600200"/>
            <a:ext cx="2210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o’s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y is divided into thre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er-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d the brightest shoul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gory of the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of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tle (384-322 b.c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of P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syllog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ople are m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rates was a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Socrates is M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the beginning of rational/ scientific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ristotle"/>
          <p:cNvPicPr/>
          <p:nvPr/>
        </p:nvPicPr>
        <p:blipFill>
          <a:blip r:embed="rId1"/>
          <a:stretch/>
        </p:blipFill>
        <p:spPr>
          <a:xfrm>
            <a:off x="6019920" y="1828800"/>
            <a:ext cx="1428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0-430 B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reached new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ge of Per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les led Athens for 32 yea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61-429 B.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d 3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paid, so even poor could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Commercial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unding from Delian League to make Navy stron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rify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t D.L. $ for architecture, (ex. The Parthen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ucceeded in all th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067_3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72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cropolis at Athens Giclee Print by Heinrich Leutemann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he Parthenon, Acropolis, Athens, Greece Photographic Print"/>
          <p:cNvPicPr/>
          <p:nvPr/>
        </p:nvPicPr>
        <p:blipFill>
          <a:blip r:embed="rId1"/>
          <a:stretch/>
        </p:blipFill>
        <p:spPr>
          <a:xfrm>
            <a:off x="457200" y="304920"/>
            <a:ext cx="4495680" cy="32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Rainbow in sky, Parthenon, Greec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38088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he Acropolis Giclee Print by Carl Neumann"/>
          <p:cNvPicPr/>
          <p:nvPr/>
        </p:nvPicPr>
        <p:blipFill>
          <a:blip r:embed="rId4"/>
          <a:stretch/>
        </p:blipFill>
        <p:spPr>
          <a:xfrm>
            <a:off x="1676520" y="3124080"/>
            <a:ext cx="6019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inth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Greek Doric Column, greek column, greek wood column, wood column."/>
          <p:cNvPicPr/>
          <p:nvPr/>
        </p:nvPicPr>
        <p:blipFill>
          <a:blip r:embed="rId1"/>
          <a:stretch/>
        </p:blipFill>
        <p:spPr>
          <a:xfrm>
            <a:off x="2133720" y="114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Greek Doric Column, greek column, greek wood column, wood column."/>
          <p:cNvPicPr/>
          <p:nvPr/>
        </p:nvPicPr>
        <p:blipFill>
          <a:blip r:embed="rId2"/>
          <a:stretch/>
        </p:blipFill>
        <p:spPr>
          <a:xfrm>
            <a:off x="4343400" y="1143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rchitectural Wood Columns"/>
          <p:cNvPicPr/>
          <p:nvPr/>
        </p:nvPicPr>
        <p:blipFill>
          <a:blip r:embed="rId3"/>
          <a:stretch/>
        </p:blipFill>
        <p:spPr>
          <a:xfrm>
            <a:off x="2971800" y="4924440"/>
            <a:ext cx="1714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Greek%20Ionic%20Columns%20small"/>
          <p:cNvPicPr/>
          <p:nvPr/>
        </p:nvPicPr>
        <p:blipFill>
          <a:blip r:embed="rId4"/>
          <a:stretch/>
        </p:blipFill>
        <p:spPr>
          <a:xfrm>
            <a:off x="1981080" y="3200400"/>
            <a:ext cx="254808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ioniccolumndesc.jpg (27634 bytes)"/>
          <p:cNvPicPr/>
          <p:nvPr/>
        </p:nvPicPr>
        <p:blipFill>
          <a:blip r:embed="rId5"/>
          <a:stretch/>
        </p:blipFill>
        <p:spPr>
          <a:xfrm>
            <a:off x="4876920" y="3124080"/>
            <a:ext cx="153324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11Elmwood_ColumnStyles02"/>
          <p:cNvPicPr/>
          <p:nvPr/>
        </p:nvPicPr>
        <p:blipFill>
          <a:blip r:embed="rId6"/>
          <a:stretch/>
        </p:blipFill>
        <p:spPr>
          <a:xfrm>
            <a:off x="487692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 is a Greek invention that was to pay tribute to the G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– award an Olive Wreath (What els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gedy– a hero’s strength was cause for their dow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dy– made fun of curr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dealt with public issues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k Play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hdionysus"/>
          <p:cNvPicPr/>
          <p:nvPr/>
        </p:nvPicPr>
        <p:blipFill>
          <a:blip r:embed="rId1"/>
          <a:stretch/>
        </p:blipFill>
        <p:spPr>
          <a:xfrm>
            <a:off x="1905120" y="762120"/>
            <a:ext cx="7048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6:17:32Z</dcterms:created>
  <dc:creator>Darien Public Schools</dc:creator>
  <dc:description/>
  <dc:language>en-US</dc:language>
  <cp:lastModifiedBy>Local User</cp:lastModifiedBy>
  <dcterms:modified xsi:type="dcterms:W3CDTF">2013-09-20T17:34:35Z</dcterms:modified>
  <cp:revision>15</cp:revision>
  <dc:subject/>
  <dc:title>Slide 1</dc:title>
</cp:coreProperties>
</file>